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5.png" ContentType="image/png"/>
  <Override PartName="/ppt/media/airport%20short%202.wav" ContentType="audio/x-wav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godbless.wav" ContentType="audio/x-wav"/>
  <Override PartName="/ppt/media/image22.png" ContentType="image/png"/>
  <Override PartName="/ppt/media/image38.png" ContentType="image/png"/>
  <Override PartName="/ppt/media/image8.png" ContentType="image/png"/>
  <Override PartName="/ppt/media/image29.jpeg" ContentType="image/jpeg"/>
  <Override PartName="/ppt/media/image30.jpeg" ContentType="image/jpeg"/>
  <Override PartName="/ppt/media/image35.png" ContentType="image/png"/>
  <Override PartName="/ppt/media/image31.jpeg" ContentType="image/jpeg"/>
  <Override PartName="/ppt/media/image2.png" ContentType="image/png"/>
  <Override PartName="/ppt/media/image42.png" ContentType="image/png"/>
  <Override PartName="/ppt/media/image43.wmf" ContentType="image/x-wmf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43C9-694B-4C88-8345-ADBEA3CE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7D1-F3B8-4722-933B-C1DA4C20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940E-0573-4AFF-A9AE-F371CD52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6A86-DE7E-45F9-9DFD-E659A771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B7B-A3F5-4FF4-A645-8319F27A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FF77-95F3-415E-88D7-FAD57CF3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F65-144E-437B-AB19-58CC0E26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6AA-2108-4008-94D2-90A603AA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03A-5E4D-474E-89C5-6D72AAE7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99B1-483A-4A4C-BEEC-EE441987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1C4-F42F-40B0-9DBA-EF76E2B9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14AC-F99B-4F6F-A38A-EA123374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5903-FB4C-49D7-89FE-44F6FE2D2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godbles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3.wmf"/><Relationship Id="rId4" Type="http://schemas.openxmlformats.org/officeDocument/2006/relationships/audio" Target="../media/airport%20short%202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airport%20short%202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PrincetownD"/>
              </a:rPr>
              <a:t>Second Grade Visits…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8080" y="586728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PrincetownD"/>
              </a:rPr>
              <a:t>Washington, D.c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" descr="C:\WINDOWS\DESKTOP\wimmer\Capitol.gif"/>
          <p:cNvPicPr/>
          <p:nvPr/>
        </p:nvPicPr>
        <p:blipFill>
          <a:blip r:embed="rId2"/>
          <a:stretch/>
        </p:blipFill>
        <p:spPr>
          <a:xfrm>
            <a:off x="990720" y="1523880"/>
            <a:ext cx="7162560" cy="4179960"/>
          </a:xfrm>
          <a:prstGeom prst="rect">
            <a:avLst/>
          </a:prstGeom>
          <a:ln w="0">
            <a:noFill/>
          </a:ln>
        </p:spPr>
      </p:pic>
      <p:pic>
        <p:nvPicPr>
          <p:cNvPr id="44" name="Star Sp. Banner.mid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6"/>
          <p:cNvSpPr txBox="1"/>
          <p:nvPr/>
        </p:nvSpPr>
        <p:spPr>
          <a:xfrm>
            <a:off x="685800" y="1066680"/>
            <a:ext cx="7696080" cy="487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Americana BT"/>
              </a:rPr>
              <a:t>Memorials and Monuments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Americana BT"/>
              <a:ea typeface="Americana BT"/>
            </a:endParaRPr>
          </a:p>
        </p:txBody>
      </p:sp>
      <p:pic>
        <p:nvPicPr>
          <p:cNvPr id="108" name="Picture 7" descr="C:\WINDOWS\Application Data\Microsoft\Media Catalog\Downloaded Clips\cl39\j0144486.jpg"/>
          <p:cNvPicPr/>
          <p:nvPr/>
        </p:nvPicPr>
        <p:blipFill>
          <a:blip r:embed="rId1"/>
          <a:stretch/>
        </p:blipFill>
        <p:spPr>
          <a:xfrm>
            <a:off x="3276720" y="1981080"/>
            <a:ext cx="2778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odbl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10"/>
          <p:cNvSpPr txBox="1"/>
          <p:nvPr/>
        </p:nvSpPr>
        <p:spPr>
          <a:xfrm rot="21009000">
            <a:off x="228240" y="838080"/>
            <a:ext cx="35053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mericana BT"/>
              </a:rPr>
              <a:t>Capitol Building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mericana BT"/>
              <a:ea typeface="Americana BT"/>
            </a:endParaRPr>
          </a:p>
        </p:txBody>
      </p:sp>
      <p:grpSp>
        <p:nvGrpSpPr>
          <p:cNvPr id="110" name="Group 12"/>
          <p:cNvGrpSpPr/>
          <p:nvPr/>
        </p:nvGrpSpPr>
        <p:grpSpPr>
          <a:xfrm>
            <a:off x="990720" y="228600"/>
            <a:ext cx="7786440" cy="6411960"/>
            <a:chOff x="990720" y="228600"/>
            <a:chExt cx="7786440" cy="6411960"/>
          </a:xfrm>
        </p:grpSpPr>
        <p:pic>
          <p:nvPicPr>
            <p:cNvPr id="111" name="Picture 5" descr="C:\WINDOWS\Application Data\Microsoft\Media Catalog\Downloaded Clips\cl39\j0144664.jpg"/>
            <p:cNvPicPr/>
            <p:nvPr/>
          </p:nvPicPr>
          <p:blipFill>
            <a:blip r:embed="rId2"/>
            <a:stretch/>
          </p:blipFill>
          <p:spPr>
            <a:xfrm>
              <a:off x="5486400" y="228600"/>
              <a:ext cx="329076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7" descr="C:\WINDOWS\Application Data\Microsoft\Media Catalog\Downloaded Clips\cl39\j0144829.jpg"/>
            <p:cNvPicPr/>
            <p:nvPr/>
          </p:nvPicPr>
          <p:blipFill>
            <a:blip r:embed="rId3"/>
            <a:stretch/>
          </p:blipFill>
          <p:spPr>
            <a:xfrm>
              <a:off x="3657600" y="1523880"/>
              <a:ext cx="162072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9" descr="C:\WINDOWS\Application Data\Microsoft\Media Catalog\Downloaded Clips\cl48\j0182470.jpg"/>
            <p:cNvPicPr/>
            <p:nvPr/>
          </p:nvPicPr>
          <p:blipFill>
            <a:blip r:embed="rId4"/>
            <a:stretch/>
          </p:blipFill>
          <p:spPr>
            <a:xfrm>
              <a:off x="990720" y="3048120"/>
              <a:ext cx="2342880" cy="35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1" descr="C:\WINDOWS\Application Data\Microsoft\Media Catalog\Downloaded Clips\cl1\ph03349i.jpg"/>
            <p:cNvPicPr/>
            <p:nvPr/>
          </p:nvPicPr>
          <p:blipFill>
            <a:blip r:embed="rId5"/>
            <a:stretch/>
          </p:blipFill>
          <p:spPr>
            <a:xfrm>
              <a:off x="4572000" y="4952880"/>
              <a:ext cx="2819520" cy="168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C:\WINDOWS\Application Data\Microsoft\Media Catalog\lincoln.gif"/>
          <p:cNvPicPr/>
          <p:nvPr/>
        </p:nvPicPr>
        <p:blipFill>
          <a:blip r:embed="rId1"/>
          <a:stretch/>
        </p:blipFill>
        <p:spPr>
          <a:xfrm>
            <a:off x="6095880" y="3962520"/>
            <a:ext cx="2514600" cy="248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WINDOWS\Application Data\Microsoft\Media Catalog\Downloaded Clips\cl48\j0182455.jpg"/>
          <p:cNvPicPr/>
          <p:nvPr/>
        </p:nvPicPr>
        <p:blipFill>
          <a:blip r:embed="rId2"/>
          <a:stretch/>
        </p:blipFill>
        <p:spPr>
          <a:xfrm>
            <a:off x="380880" y="2057400"/>
            <a:ext cx="5334120" cy="35910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8"/>
          <p:cNvSpPr txBox="1"/>
          <p:nvPr/>
        </p:nvSpPr>
        <p:spPr>
          <a:xfrm>
            <a:off x="1981080" y="457200"/>
            <a:ext cx="4953240" cy="21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596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mericana BT"/>
              </a:rPr>
              <a:t>Lincoln Memorial</a:t>
            </a:r>
            <a:endParaRPr b="0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mericana BT"/>
              <a:ea typeface="Americana BT"/>
            </a:endParaRPr>
          </a:p>
        </p:txBody>
      </p:sp>
      <p:pic>
        <p:nvPicPr>
          <p:cNvPr id="118" name="Picture 9" descr=""/>
          <p:cNvPicPr/>
          <p:nvPr/>
        </p:nvPicPr>
        <p:blipFill>
          <a:blip r:embed="rId3"/>
          <a:stretch/>
        </p:blipFill>
        <p:spPr>
          <a:xfrm>
            <a:off x="6934320" y="1523880"/>
            <a:ext cx="190476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mericana BT"/>
              </a:rPr>
              <a:t>Washington Monu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C:\WINDOWS\Application Data\Microsoft\Media Catalog\Downloaded Clips\cl0\ph02470k.jpg"/>
          <p:cNvPicPr/>
          <p:nvPr/>
        </p:nvPicPr>
        <p:blipFill>
          <a:blip r:embed="rId1"/>
          <a:stretch/>
        </p:blipFill>
        <p:spPr>
          <a:xfrm>
            <a:off x="2971800" y="1676520"/>
            <a:ext cx="3157560" cy="4800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7086600" y="1828800"/>
            <a:ext cx="18939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ject 6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224240" cy="6324480"/>
          </a:xfrm>
          <a:prstGeom prst="rect">
            <a:avLst/>
          </a:prstGeom>
          <a:ln w="0">
            <a:noFill/>
          </a:ln>
        </p:spPr>
      </p:pic>
      <p:sp>
        <p:nvSpPr>
          <p:cNvPr id="123" name="WordArt 9"/>
          <p:cNvSpPr txBox="1"/>
          <p:nvPr/>
        </p:nvSpPr>
        <p:spPr>
          <a:xfrm>
            <a:off x="0" y="2209680"/>
            <a:ext cx="4038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mericana BT"/>
              </a:rPr>
              <a:t>Jefferson Memori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mericana BT"/>
              <a:ea typeface="Americana BT"/>
            </a:endParaRPr>
          </a:p>
        </p:txBody>
      </p:sp>
      <p:pic>
        <p:nvPicPr>
          <p:cNvPr id="124" name="Picture 10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23144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C:\WINDOWS\DESKTOP\wimmer\thewall.gif"/>
          <p:cNvPicPr/>
          <p:nvPr/>
        </p:nvPicPr>
        <p:blipFill>
          <a:blip r:embed="rId1"/>
          <a:stretch/>
        </p:blipFill>
        <p:spPr>
          <a:xfrm>
            <a:off x="1295280" y="1905120"/>
            <a:ext cx="6675480" cy="4286160"/>
          </a:xfrm>
          <a:prstGeom prst="rect">
            <a:avLst/>
          </a:prstGeom>
          <a:ln w="0">
            <a:noFill/>
          </a:ln>
        </p:spPr>
      </p:pic>
      <p:sp>
        <p:nvSpPr>
          <p:cNvPr id="126" name="WordArt 8"/>
          <p:cNvSpPr txBox="1"/>
          <p:nvPr/>
        </p:nvSpPr>
        <p:spPr>
          <a:xfrm>
            <a:off x="2286000" y="304920"/>
            <a:ext cx="4800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445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mericana BT"/>
              </a:rPr>
              <a:t>The Wall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Americana BT"/>
              <a:ea typeface="Americana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mericana BT"/>
              </a:rPr>
              <a:t>Arlington Cemete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10"/>
          <p:cNvGrpSpPr/>
          <p:nvPr/>
        </p:nvGrpSpPr>
        <p:grpSpPr>
          <a:xfrm>
            <a:off x="533520" y="1676520"/>
            <a:ext cx="7010280" cy="4620960"/>
            <a:chOff x="533520" y="1676520"/>
            <a:chExt cx="7010280" cy="4620960"/>
          </a:xfrm>
        </p:grpSpPr>
        <p:graphicFrame>
          <p:nvGraphicFramePr>
            <p:cNvPr id="129" name="Object 5"/>
            <p:cNvGraphicFramePr/>
            <p:nvPr/>
          </p:nvGraphicFramePr>
          <p:xfrm>
            <a:off x="533520" y="3352680"/>
            <a:ext cx="3809880" cy="294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3352680"/>
                      <a:ext cx="3809880" cy="294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Object 6"/>
            <p:cNvGraphicFramePr/>
            <p:nvPr/>
          </p:nvGraphicFramePr>
          <p:xfrm>
            <a:off x="5410080" y="1676520"/>
            <a:ext cx="2133720" cy="3198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1676520"/>
                      <a:ext cx="2133720" cy="31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Object 12"/>
          <p:cNvGraphicFramePr/>
          <p:nvPr/>
        </p:nvGraphicFramePr>
        <p:xfrm>
          <a:off x="457200" y="1143000"/>
          <a:ext cx="815328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15328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" name="Group 11"/>
          <p:cNvGrpSpPr/>
          <p:nvPr/>
        </p:nvGrpSpPr>
        <p:grpSpPr>
          <a:xfrm>
            <a:off x="1905120" y="2590920"/>
            <a:ext cx="3429000" cy="1371600"/>
            <a:chOff x="1905120" y="2590920"/>
            <a:chExt cx="3429000" cy="1371600"/>
          </a:xfrm>
        </p:grpSpPr>
        <p:pic>
          <p:nvPicPr>
            <p:cNvPr id="136" name="Picture 9" descr="C:\WINDOWS\Application Data\Microsoft\Media Catalog\Downloaded Clips\cl36\j0136855.wmf"/>
            <p:cNvPicPr/>
            <p:nvPr/>
          </p:nvPicPr>
          <p:blipFill>
            <a:blip r:embed="rId3"/>
            <a:stretch/>
          </p:blipFill>
          <p:spPr>
            <a:xfrm>
              <a:off x="1905120" y="2590920"/>
              <a:ext cx="3429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0"/>
            <p:cNvSpPr/>
            <p:nvPr/>
          </p:nvSpPr>
          <p:spPr>
            <a:xfrm>
              <a:off x="3708720" y="3137040"/>
              <a:ext cx="1590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mericana BT"/>
                </a:rPr>
                <a:t>Back home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irport%20short%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mericana BT"/>
              </a:rPr>
              <a:t>Where Is Washington, D.C.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C:\WINDOWS\DESKTOP\wimmer\usmap.gif"/>
          <p:cNvPicPr/>
          <p:nvPr/>
        </p:nvPicPr>
        <p:blipFill>
          <a:blip r:embed="rId1"/>
          <a:stretch/>
        </p:blipFill>
        <p:spPr>
          <a:xfrm>
            <a:off x="1066680" y="2286000"/>
            <a:ext cx="7108920" cy="4068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WINDOWS\Application Data\Microsoft\Media Catalog\Downloaded Clips\cl2\bd05692_.wmf"/>
          <p:cNvPicPr/>
          <p:nvPr/>
        </p:nvPicPr>
        <p:blipFill>
          <a:blip r:embed="rId2"/>
          <a:stretch/>
        </p:blipFill>
        <p:spPr>
          <a:xfrm>
            <a:off x="5029200" y="3200400"/>
            <a:ext cx="1654200" cy="923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irport%20short%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evt="end">
                                        <p:tn val="28"/>
                                      </p:cond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Americana BT"/>
              </a:rPr>
              <a:t>Who Lives in Washington, D.C.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C:\WINDOWS\Application Data\Microsoft\Media Catalog\Clinton.gif"/>
          <p:cNvPicPr/>
          <p:nvPr/>
        </p:nvPicPr>
        <p:blipFill>
          <a:blip r:embed="rId1"/>
          <a:stretch/>
        </p:blipFill>
        <p:spPr>
          <a:xfrm>
            <a:off x="380880" y="2286000"/>
            <a:ext cx="2438640" cy="2678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0" y="5105520"/>
            <a:ext cx="3124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Presid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Bill Clin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3"/>
          <a:stretch/>
        </p:blipFill>
        <p:spPr>
          <a:xfrm>
            <a:off x="6694560" y="2286000"/>
            <a:ext cx="2144520" cy="2895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4"/>
          <a:stretch/>
        </p:blipFill>
        <p:spPr>
          <a:xfrm>
            <a:off x="3124080" y="2286000"/>
            <a:ext cx="2847960" cy="2362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2971800" y="480060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President George Washing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867280" y="5380200"/>
            <a:ext cx="3124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Presid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Barack Ob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701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mericana BT"/>
              </a:rPr>
              <a:t>What is the name of the house the President lives 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C:\WINDOWS\Application Data\Microsoft\Media Catalog\Copy of white house.gif"/>
          <p:cNvPicPr/>
          <p:nvPr/>
        </p:nvPicPr>
        <p:blipFill>
          <a:blip r:embed="rId1"/>
          <a:stretch/>
        </p:blipFill>
        <p:spPr>
          <a:xfrm>
            <a:off x="1600200" y="2286000"/>
            <a:ext cx="5562720" cy="3693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600200" y="59436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The White Ho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mericana BT"/>
              </a:rPr>
              <a:t>Different rooms in the White Ho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5"/>
          <p:cNvGraphicFramePr/>
          <p:nvPr/>
        </p:nvGraphicFramePr>
        <p:xfrm>
          <a:off x="8458200" y="632448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58200" y="63244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" name="Group 11"/>
          <p:cNvGrpSpPr/>
          <p:nvPr/>
        </p:nvGrpSpPr>
        <p:grpSpPr>
          <a:xfrm>
            <a:off x="457200" y="2133720"/>
            <a:ext cx="3886200" cy="3888720"/>
            <a:chOff x="457200" y="2133720"/>
            <a:chExt cx="3886200" cy="3888720"/>
          </a:xfrm>
        </p:grpSpPr>
        <p:graphicFrame>
          <p:nvGraphicFramePr>
            <p:cNvPr id="63" name="Object 6"/>
            <p:cNvGraphicFramePr/>
            <p:nvPr/>
          </p:nvGraphicFramePr>
          <p:xfrm>
            <a:off x="457200" y="2133720"/>
            <a:ext cx="3886200" cy="30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2133720"/>
                      <a:ext cx="3886200" cy="30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" name="Text Box 8"/>
            <p:cNvSpPr/>
            <p:nvPr/>
          </p:nvSpPr>
          <p:spPr>
            <a:xfrm>
              <a:off x="838080" y="55627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Americana BT"/>
                </a:rPr>
                <a:t>The Blue Ro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12"/>
          <p:cNvGrpSpPr/>
          <p:nvPr/>
        </p:nvGrpSpPr>
        <p:grpSpPr>
          <a:xfrm>
            <a:off x="5562720" y="1905120"/>
            <a:ext cx="2611440" cy="4498200"/>
            <a:chOff x="5562720" y="1905120"/>
            <a:chExt cx="2611440" cy="4498200"/>
          </a:xfrm>
        </p:grpSpPr>
        <p:graphicFrame>
          <p:nvGraphicFramePr>
            <p:cNvPr id="67" name="Object 7"/>
            <p:cNvGraphicFramePr/>
            <p:nvPr/>
          </p:nvGraphicFramePr>
          <p:xfrm>
            <a:off x="5562720" y="1905120"/>
            <a:ext cx="2611440" cy="388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2720" y="1905120"/>
                      <a:ext cx="261144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" name="Text Box 10"/>
            <p:cNvSpPr/>
            <p:nvPr/>
          </p:nvSpPr>
          <p:spPr>
            <a:xfrm>
              <a:off x="5638680" y="59436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The Green Ro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10"/>
          <p:cNvGrpSpPr/>
          <p:nvPr/>
        </p:nvGrpSpPr>
        <p:grpSpPr>
          <a:xfrm>
            <a:off x="914400" y="609480"/>
            <a:ext cx="7620120" cy="5943600"/>
            <a:chOff x="914400" y="609480"/>
            <a:chExt cx="7620120" cy="5943600"/>
          </a:xfrm>
        </p:grpSpPr>
        <p:graphicFrame>
          <p:nvGraphicFramePr>
            <p:cNvPr id="71" name="Object 6"/>
            <p:cNvGraphicFramePr/>
            <p:nvPr/>
          </p:nvGraphicFramePr>
          <p:xfrm>
            <a:off x="5486400" y="609480"/>
            <a:ext cx="2770200" cy="388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86400" y="609480"/>
                      <a:ext cx="27702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" name="Group 9"/>
            <p:cNvGrpSpPr/>
            <p:nvPr/>
          </p:nvGrpSpPr>
          <p:grpSpPr>
            <a:xfrm>
              <a:off x="914400" y="609480"/>
              <a:ext cx="3124080" cy="5943600"/>
              <a:chOff x="914400" y="609480"/>
              <a:chExt cx="3124080" cy="5943600"/>
            </a:xfrm>
          </p:grpSpPr>
          <p:graphicFrame>
            <p:nvGraphicFramePr>
              <p:cNvPr id="74" name="Object 5"/>
              <p:cNvGraphicFramePr/>
              <p:nvPr/>
            </p:nvGraphicFramePr>
            <p:xfrm>
              <a:off x="1143000" y="2286000"/>
              <a:ext cx="2754360" cy="4267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5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143000" y="2286000"/>
                        <a:ext cx="2754360" cy="4267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" name="Text Box 7"/>
              <p:cNvSpPr/>
              <p:nvPr/>
            </p:nvSpPr>
            <p:spPr>
              <a:xfrm>
                <a:off x="914400" y="609480"/>
                <a:ext cx="31240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500" spc="-1" strike="noStrike">
                    <a:solidFill>
                      <a:srgbClr val="ff0000"/>
                    </a:solidFill>
                    <a:latin typeface="Americana BT"/>
                  </a:rPr>
                  <a:t>The Red Room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Text Box 8"/>
            <p:cNvSpPr/>
            <p:nvPr/>
          </p:nvSpPr>
          <p:spPr>
            <a:xfrm>
              <a:off x="5181480" y="4724280"/>
              <a:ext cx="33530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cc00"/>
                  </a:solidFill>
                  <a:latin typeface="Americana BT"/>
                </a:rPr>
                <a:t>T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cc00"/>
                  </a:solidFill>
                  <a:latin typeface="Americana BT"/>
                </a:rPr>
                <a:t>East Roo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5"/>
          <p:cNvGraphicFramePr/>
          <p:nvPr/>
        </p:nvGraphicFramePr>
        <p:xfrm>
          <a:off x="2666880" y="1828800"/>
          <a:ext cx="37054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828800"/>
                    <a:ext cx="37054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WordArt 6"/>
          <p:cNvSpPr txBox="1"/>
          <p:nvPr/>
        </p:nvSpPr>
        <p:spPr>
          <a:xfrm>
            <a:off x="1676520" y="533520"/>
            <a:ext cx="548640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080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mericana BT"/>
              </a:rPr>
              <a:t>The Oval Office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mericana BT"/>
              <a:ea typeface="Americana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7"/>
          <p:cNvSpPr txBox="1"/>
          <p:nvPr/>
        </p:nvSpPr>
        <p:spPr>
          <a:xfrm>
            <a:off x="1219320" y="228600"/>
            <a:ext cx="6781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mericana BT"/>
              </a:rPr>
              <a:t>Children Who Have Lived in the White Hous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mericana BT"/>
              <a:ea typeface="Americana BT"/>
            </a:endParaRPr>
          </a:p>
        </p:txBody>
      </p:sp>
      <p:grpSp>
        <p:nvGrpSpPr>
          <p:cNvPr id="83" name="Group 13"/>
          <p:cNvGrpSpPr/>
          <p:nvPr/>
        </p:nvGrpSpPr>
        <p:grpSpPr>
          <a:xfrm>
            <a:off x="609480" y="1676520"/>
            <a:ext cx="7675560" cy="4805280"/>
            <a:chOff x="609480" y="1676520"/>
            <a:chExt cx="7675560" cy="4805280"/>
          </a:xfrm>
        </p:grpSpPr>
        <p:graphicFrame>
          <p:nvGraphicFramePr>
            <p:cNvPr id="84" name="Object 8"/>
            <p:cNvGraphicFramePr/>
            <p:nvPr/>
          </p:nvGraphicFramePr>
          <p:xfrm>
            <a:off x="3124080" y="1676520"/>
            <a:ext cx="2006640" cy="2209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24080" y="1676520"/>
                      <a:ext cx="200664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Object 9"/>
            <p:cNvGraphicFramePr/>
            <p:nvPr/>
          </p:nvGraphicFramePr>
          <p:xfrm>
            <a:off x="6553080" y="1981080"/>
            <a:ext cx="1731960" cy="2133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7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1981080"/>
                      <a:ext cx="1731960" cy="213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Object 10"/>
            <p:cNvGraphicFramePr/>
            <p:nvPr/>
          </p:nvGraphicFramePr>
          <p:xfrm>
            <a:off x="5105520" y="4648320"/>
            <a:ext cx="2666880" cy="1833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9" name="Object 1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105520" y="4648320"/>
                      <a:ext cx="2666880" cy="18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" name="Object 11"/>
            <p:cNvGraphicFramePr/>
            <p:nvPr/>
          </p:nvGraphicFramePr>
          <p:xfrm>
            <a:off x="1295280" y="4800600"/>
            <a:ext cx="2667240" cy="1398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1" name="Object 11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295280" y="4800600"/>
                      <a:ext cx="2667240" cy="13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Object 12"/>
            <p:cNvGraphicFramePr/>
            <p:nvPr/>
          </p:nvGraphicFramePr>
          <p:xfrm>
            <a:off x="609480" y="1905120"/>
            <a:ext cx="1152720" cy="2438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3" name="Object 12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09480" y="1905120"/>
                      <a:ext cx="1152720" cy="24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5"/>
          <p:cNvSpPr txBox="1"/>
          <p:nvPr/>
        </p:nvSpPr>
        <p:spPr>
          <a:xfrm>
            <a:off x="1905120" y="2590920"/>
            <a:ext cx="51051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mericana BT"/>
              </a:rPr>
              <a:t>White House Pet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mericana BT"/>
              <a:ea typeface="Americana BT"/>
            </a:endParaRPr>
          </a:p>
        </p:txBody>
      </p:sp>
      <p:grpSp>
        <p:nvGrpSpPr>
          <p:cNvPr id="95" name="Group 12"/>
          <p:cNvGrpSpPr/>
          <p:nvPr/>
        </p:nvGrpSpPr>
        <p:grpSpPr>
          <a:xfrm>
            <a:off x="685800" y="4419720"/>
            <a:ext cx="7989840" cy="2209680"/>
            <a:chOff x="685800" y="4419720"/>
            <a:chExt cx="7989840" cy="2209680"/>
          </a:xfrm>
        </p:grpSpPr>
        <p:graphicFrame>
          <p:nvGraphicFramePr>
            <p:cNvPr id="96" name="Object 6"/>
            <p:cNvGraphicFramePr/>
            <p:nvPr/>
          </p:nvGraphicFramePr>
          <p:xfrm>
            <a:off x="685800" y="4419720"/>
            <a:ext cx="1986120" cy="220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4419720"/>
                      <a:ext cx="198612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Object 7"/>
            <p:cNvGraphicFramePr/>
            <p:nvPr/>
          </p:nvGraphicFramePr>
          <p:xfrm>
            <a:off x="5943600" y="4648320"/>
            <a:ext cx="2732040" cy="197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43600" y="4648320"/>
                      <a:ext cx="2732040" cy="19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" name="Group 11"/>
          <p:cNvGrpSpPr/>
          <p:nvPr/>
        </p:nvGrpSpPr>
        <p:grpSpPr>
          <a:xfrm>
            <a:off x="228600" y="304920"/>
            <a:ext cx="8416800" cy="2286000"/>
            <a:chOff x="228600" y="304920"/>
            <a:chExt cx="8416800" cy="2286000"/>
          </a:xfrm>
        </p:grpSpPr>
        <p:graphicFrame>
          <p:nvGraphicFramePr>
            <p:cNvPr id="101" name="Object 8"/>
            <p:cNvGraphicFramePr/>
            <p:nvPr/>
          </p:nvGraphicFramePr>
          <p:xfrm>
            <a:off x="6934320" y="533520"/>
            <a:ext cx="1711080" cy="2057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34320" y="533520"/>
                      <a:ext cx="171108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Object 9"/>
            <p:cNvGraphicFramePr/>
            <p:nvPr/>
          </p:nvGraphicFramePr>
          <p:xfrm>
            <a:off x="3886200" y="304920"/>
            <a:ext cx="1925640" cy="1981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4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86200" y="304920"/>
                      <a:ext cx="192564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Object 10"/>
            <p:cNvGraphicFramePr/>
            <p:nvPr/>
          </p:nvGraphicFramePr>
          <p:xfrm>
            <a:off x="228600" y="380880"/>
            <a:ext cx="2438280" cy="205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6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600" y="380880"/>
                      <a:ext cx="2438280" cy="20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21:51:08Z</dcterms:created>
  <dc:creator>Inst</dc:creator>
  <dc:description/>
  <dc:language>en-US</dc:language>
  <cp:lastModifiedBy>hnace</cp:lastModifiedBy>
  <dcterms:modified xsi:type="dcterms:W3CDTF">2009-08-06T19:40:14Z</dcterms:modified>
  <cp:revision>10</cp:revision>
  <dc:subject/>
  <dc:title>First Grade Visits… </dc:title>
</cp:coreProperties>
</file>