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5.png" ContentType="image/png"/>
  <Override PartName="/ppt/media/airport%20short%202.wav" ContentType="audio/x-wav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godbless.wav" ContentType="audio/x-wav"/>
  <Override PartName="/ppt/media/image22.png" ContentType="image/png"/>
  <Override PartName="/ppt/media/image38.png" ContentType="image/png"/>
  <Override PartName="/ppt/media/image8.png" ContentType="image/png"/>
  <Override PartName="/ppt/media/image29.jpeg" ContentType="image/jpeg"/>
  <Override PartName="/ppt/media/image30.jpeg" ContentType="image/jpeg"/>
  <Override PartName="/ppt/media/image35.png" ContentType="image/png"/>
  <Override PartName="/ppt/media/image31.jpeg" ContentType="image/jpeg"/>
  <Override PartName="/ppt/media/image2.png" ContentType="image/png"/>
  <Override PartName="/ppt/media/image42.png" ContentType="image/png"/>
  <Override PartName="/ppt/media/image43.wmf" ContentType="image/x-wmf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E4D-D04C-46A7-B978-225EDC6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EF0-86D8-434A-A22E-68E96AC7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005-2E1F-4FED-ADBA-43A0D90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450-9457-4781-848A-F9B5A3A7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B67-B83D-44BA-9DA5-1B9FE54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9B4-DBA0-4A77-A318-3C76F13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58F-7292-4E82-9019-0A68656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5EB-1898-4593-BF9D-795A283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AB7-ADE1-4EDC-82E5-D9CA1107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4D0-4C57-4C28-A5C0-E50ECFD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1EE-1F19-4B0D-832C-38B4A6E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786-CB67-49B6-932A-100FEAD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5B50-26BA-4FF5-B25A-D301FDBC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dble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3.wmf"/><Relationship Id="rId4" Type="http://schemas.openxmlformats.org/officeDocument/2006/relationships/audio" Target="../media/airport%20short%202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airport%20short%202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PrincetownD"/>
              </a:rPr>
              <a:t>Second Grade Visits…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8080" y="5867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rincetownD"/>
              </a:rPr>
              <a:t>Washington, D.c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C:\WINDOWS\DESKTOP\wimmer\Capitol.gif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179960"/>
          </a:xfrm>
          <a:prstGeom prst="rect">
            <a:avLst/>
          </a:prstGeom>
          <a:ln w="0">
            <a:noFill/>
          </a:ln>
        </p:spPr>
      </p:pic>
      <p:pic>
        <p:nvPicPr>
          <p:cNvPr id="44" name="Star Sp. Banner.mid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685800" y="1066680"/>
            <a:ext cx="769608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mericana BT"/>
              </a:rPr>
              <a:t>Memorials and Monumen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mericana BT"/>
              <a:ea typeface="Americana BT"/>
            </a:endParaRPr>
          </a:p>
        </p:txBody>
      </p:sp>
      <p:pic>
        <p:nvPicPr>
          <p:cNvPr id="108" name="Picture 7" descr="C:\WINDOWS\Application Data\Microsoft\Media Catalog\Downloaded Clips\cl39\j0144486.jpg"/>
          <p:cNvPicPr/>
          <p:nvPr/>
        </p:nvPicPr>
        <p:blipFill>
          <a:blip r:embed="rId1"/>
          <a:stretch/>
        </p:blipFill>
        <p:spPr>
          <a:xfrm>
            <a:off x="3276720" y="1981080"/>
            <a:ext cx="2778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dbl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10"/>
          <p:cNvSpPr txBox="1"/>
          <p:nvPr/>
        </p:nvSpPr>
        <p:spPr>
          <a:xfrm rot="21009000">
            <a:off x="228240" y="8380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mericana BT"/>
              </a:rPr>
              <a:t>Capitol Building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mericana BT"/>
              <a:ea typeface="Americana BT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990720" y="228600"/>
            <a:ext cx="7786440" cy="6411960"/>
            <a:chOff x="990720" y="228600"/>
            <a:chExt cx="7786440" cy="6411960"/>
          </a:xfrm>
        </p:grpSpPr>
        <p:pic>
          <p:nvPicPr>
            <p:cNvPr id="111" name="Picture 5" descr="C:\WINDOWS\Application Data\Microsoft\Media Catalog\Downloaded Clips\cl39\j0144664.jpg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9076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C:\WINDOWS\Application Data\Microsoft\Media Catalog\Downloaded Clips\cl39\j0144829.jpg"/>
            <p:cNvPicPr/>
            <p:nvPr/>
          </p:nvPicPr>
          <p:blipFill>
            <a:blip r:embed="rId3"/>
            <a:stretch/>
          </p:blipFill>
          <p:spPr>
            <a:xfrm>
              <a:off x="3657600" y="1523880"/>
              <a:ext cx="16207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C:\WINDOWS\Application Data\Microsoft\Media Catalog\Downloaded Clips\cl48\j0182470.jpg"/>
            <p:cNvPicPr/>
            <p:nvPr/>
          </p:nvPicPr>
          <p:blipFill>
            <a:blip r:embed="rId4"/>
            <a:stretch/>
          </p:blipFill>
          <p:spPr>
            <a:xfrm>
              <a:off x="990720" y="3048120"/>
              <a:ext cx="23428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C:\WINDOWS\Application Data\Microsoft\Media Catalog\Downloaded Clips\cl1\ph03349i.jpg"/>
            <p:cNvPicPr/>
            <p:nvPr/>
          </p:nvPicPr>
          <p:blipFill>
            <a:blip r:embed="rId5"/>
            <a:stretch/>
          </p:blipFill>
          <p:spPr>
            <a:xfrm>
              <a:off x="4572000" y="4952880"/>
              <a:ext cx="2819520" cy="16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WINDOWS\Application Data\Microsoft\Media Catalog\lincoln.gif"/>
          <p:cNvPicPr/>
          <p:nvPr/>
        </p:nvPicPr>
        <p:blipFill>
          <a:blip r:embed="rId1"/>
          <a:stretch/>
        </p:blipFill>
        <p:spPr>
          <a:xfrm>
            <a:off x="6095880" y="3962520"/>
            <a:ext cx="2514600" cy="24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WINDOWS\Application Data\Microsoft\Media Catalog\Downloaded Clips\cl48\j0182455.jpg"/>
          <p:cNvPicPr/>
          <p:nvPr/>
        </p:nvPicPr>
        <p:blipFill>
          <a:blip r:embed="rId2"/>
          <a:stretch/>
        </p:blipFill>
        <p:spPr>
          <a:xfrm>
            <a:off x="380880" y="2057400"/>
            <a:ext cx="5334120" cy="3591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1981080" y="457200"/>
            <a:ext cx="495324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96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mericana BT"/>
              </a:rPr>
              <a:t>Lincoln Memorial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mericana BT"/>
              <a:ea typeface="Americana BT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6934320" y="1523880"/>
            <a:ext cx="1904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mericana BT"/>
              </a:rPr>
              <a:t>Washington Monu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C:\WINDOWS\Application Data\Microsoft\Media Catalog\Downloaded Clips\cl0\ph02470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15756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93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224240" cy="63244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9"/>
          <p:cNvSpPr txBox="1"/>
          <p:nvPr/>
        </p:nvSpPr>
        <p:spPr>
          <a:xfrm>
            <a:off x="0" y="22096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mericana BT"/>
              </a:rPr>
              <a:t>Jefferson Memor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mericana BT"/>
              <a:ea typeface="Americana BT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14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WINDOWS\DESKTOP\wimmer\thewall.gif"/>
          <p:cNvPicPr/>
          <p:nvPr/>
        </p:nvPicPr>
        <p:blipFill>
          <a:blip r:embed="rId1"/>
          <a:stretch/>
        </p:blipFill>
        <p:spPr>
          <a:xfrm>
            <a:off x="1295280" y="1905120"/>
            <a:ext cx="667548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286000" y="3049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4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mericana BT"/>
              </a:rPr>
              <a:t>The Wall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Arlington Ceme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533520" y="1676520"/>
            <a:ext cx="7010280" cy="4620960"/>
            <a:chOff x="533520" y="1676520"/>
            <a:chExt cx="7010280" cy="4620960"/>
          </a:xfrm>
        </p:grpSpPr>
        <p:graphicFrame>
          <p:nvGraphicFramePr>
            <p:cNvPr id="129" name="Object 5"/>
            <p:cNvGraphicFramePr/>
            <p:nvPr/>
          </p:nvGraphicFramePr>
          <p:xfrm>
            <a:off x="533520" y="3352680"/>
            <a:ext cx="3809880" cy="29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352680"/>
                      <a:ext cx="380988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6"/>
            <p:cNvGraphicFramePr/>
            <p:nvPr/>
          </p:nvGraphicFramePr>
          <p:xfrm>
            <a:off x="5410080" y="1676520"/>
            <a:ext cx="2133720" cy="319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1676520"/>
                      <a:ext cx="2133720" cy="31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12"/>
          <p:cNvGraphicFramePr/>
          <p:nvPr/>
        </p:nvGraphicFramePr>
        <p:xfrm>
          <a:off x="457200" y="1143000"/>
          <a:ext cx="81532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1532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1"/>
          <p:cNvGrpSpPr/>
          <p:nvPr/>
        </p:nvGrpSpPr>
        <p:grpSpPr>
          <a:xfrm>
            <a:off x="1905120" y="2590920"/>
            <a:ext cx="3429000" cy="1371600"/>
            <a:chOff x="1905120" y="2590920"/>
            <a:chExt cx="3429000" cy="1371600"/>
          </a:xfrm>
        </p:grpSpPr>
        <p:pic>
          <p:nvPicPr>
            <p:cNvPr id="136" name="Picture 9" descr="C:\WINDOWS\Application Data\Microsoft\Media Catalog\Downloaded Clips\cl36\j0136855.wmf"/>
            <p:cNvPicPr/>
            <p:nvPr/>
          </p:nvPicPr>
          <p:blipFill>
            <a:blip r:embed="rId3"/>
            <a:stretch/>
          </p:blipFill>
          <p:spPr>
            <a:xfrm>
              <a:off x="1905120" y="2590920"/>
              <a:ext cx="342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3708720" y="3137040"/>
              <a:ext cx="159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mericana BT"/>
                </a:rPr>
                <a:t>Back hom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mericana BT"/>
              </a:rPr>
              <a:t>Where Is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WINDOWS\DESKTOP\wimmer\usmap.gif"/>
          <p:cNvPicPr/>
          <p:nvPr/>
        </p:nvPicPr>
        <p:blipFill>
          <a:blip r:embed="rId1"/>
          <a:stretch/>
        </p:blipFill>
        <p:spPr>
          <a:xfrm>
            <a:off x="1066680" y="2286000"/>
            <a:ext cx="7108920" cy="40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WINDOWS\Application Data\Microsoft\Media Catalog\Downloaded Clips\cl2\bd05692_.wmf"/>
          <p:cNvPicPr/>
          <p:nvPr/>
        </p:nvPicPr>
        <p:blipFill>
          <a:blip r:embed="rId2"/>
          <a:stretch/>
        </p:blipFill>
        <p:spPr>
          <a:xfrm>
            <a:off x="5029200" y="3200400"/>
            <a:ext cx="165420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mericana BT"/>
              </a:rPr>
              <a:t>Who Lives in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WINDOWS\Application Data\Microsoft\Media Catalog\Clinton.gif"/>
          <p:cNvPicPr/>
          <p:nvPr/>
        </p:nvPicPr>
        <p:blipFill>
          <a:blip r:embed="rId1"/>
          <a:stretch/>
        </p:blipFill>
        <p:spPr>
          <a:xfrm>
            <a:off x="380880" y="2286000"/>
            <a:ext cx="243864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510552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ill Clin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694560" y="2286000"/>
            <a:ext cx="21445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4"/>
          <a:stretch/>
        </p:blipFill>
        <p:spPr>
          <a:xfrm>
            <a:off x="3124080" y="2286000"/>
            <a:ext cx="284796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71800" y="4800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George Washing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67280" y="5380200"/>
            <a:ext cx="3124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0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What is the name of the house the President lives 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WINDOWS\Application Data\Microsoft\Media Catalog\Copy of white house.gif"/>
          <p:cNvPicPr/>
          <p:nvPr/>
        </p:nvPicPr>
        <p:blipFill>
          <a:blip r:embed="rId1"/>
          <a:stretch/>
        </p:blipFill>
        <p:spPr>
          <a:xfrm>
            <a:off x="1600200" y="2286000"/>
            <a:ext cx="5562720" cy="369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600200" y="5943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The White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mericana BT"/>
              </a:rPr>
              <a:t>Different rooms in the Whit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8458200" y="63244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820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Group 11"/>
          <p:cNvGrpSpPr/>
          <p:nvPr/>
        </p:nvGrpSpPr>
        <p:grpSpPr>
          <a:xfrm>
            <a:off x="457200" y="2133720"/>
            <a:ext cx="3886200" cy="3888720"/>
            <a:chOff x="457200" y="2133720"/>
            <a:chExt cx="3886200" cy="3888720"/>
          </a:xfrm>
        </p:grpSpPr>
        <p:graphicFrame>
          <p:nvGraphicFramePr>
            <p:cNvPr id="63" name="Object 6"/>
            <p:cNvGraphicFramePr/>
            <p:nvPr/>
          </p:nvGraphicFramePr>
          <p:xfrm>
            <a:off x="457200" y="2133720"/>
            <a:ext cx="3886200" cy="30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3886200" cy="30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8"/>
            <p:cNvSpPr/>
            <p:nvPr/>
          </p:nvSpPr>
          <p:spPr>
            <a:xfrm>
              <a:off x="838080" y="5562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mericana BT"/>
                </a:rPr>
                <a:t>The Blue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5562720" y="1905120"/>
            <a:ext cx="2611440" cy="4498200"/>
            <a:chOff x="5562720" y="1905120"/>
            <a:chExt cx="2611440" cy="4498200"/>
          </a:xfrm>
        </p:grpSpPr>
        <p:graphicFrame>
          <p:nvGraphicFramePr>
            <p:cNvPr id="67" name="Object 7"/>
            <p:cNvGraphicFramePr/>
            <p:nvPr/>
          </p:nvGraphicFramePr>
          <p:xfrm>
            <a:off x="5562720" y="1905120"/>
            <a:ext cx="2611440" cy="388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905120"/>
                      <a:ext cx="261144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Text Box 10"/>
            <p:cNvSpPr/>
            <p:nvPr/>
          </p:nvSpPr>
          <p:spPr>
            <a:xfrm>
              <a:off x="5638680" y="59436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The Green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914400" y="609480"/>
            <a:ext cx="7620120" cy="5943600"/>
            <a:chOff x="914400" y="609480"/>
            <a:chExt cx="7620120" cy="5943600"/>
          </a:xfrm>
        </p:grpSpPr>
        <p:graphicFrame>
          <p:nvGraphicFramePr>
            <p:cNvPr id="71" name="Object 6"/>
            <p:cNvGraphicFramePr/>
            <p:nvPr/>
          </p:nvGraphicFramePr>
          <p:xfrm>
            <a:off x="5486400" y="609480"/>
            <a:ext cx="2770200" cy="388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86400" y="609480"/>
                      <a:ext cx="27702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" name="Group 9"/>
            <p:cNvGrpSpPr/>
            <p:nvPr/>
          </p:nvGrpSpPr>
          <p:grpSpPr>
            <a:xfrm>
              <a:off x="914400" y="609480"/>
              <a:ext cx="3124080" cy="5943600"/>
              <a:chOff x="914400" y="609480"/>
              <a:chExt cx="3124080" cy="5943600"/>
            </a:xfrm>
          </p:grpSpPr>
          <p:graphicFrame>
            <p:nvGraphicFramePr>
              <p:cNvPr id="74" name="Object 5"/>
              <p:cNvGraphicFramePr/>
              <p:nvPr/>
            </p:nvGraphicFramePr>
            <p:xfrm>
              <a:off x="1143000" y="2286000"/>
              <a:ext cx="2754360" cy="4267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2286000"/>
                        <a:ext cx="2754360" cy="426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Text Box 7"/>
              <p:cNvSpPr/>
              <p:nvPr/>
            </p:nvSpPr>
            <p:spPr>
              <a:xfrm>
                <a:off x="914400" y="609480"/>
                <a:ext cx="31240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0000"/>
                    </a:solidFill>
                    <a:latin typeface="Americana BT"/>
                  </a:rPr>
                  <a:t>The Red Room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Text Box 8"/>
            <p:cNvSpPr/>
            <p:nvPr/>
          </p:nvSpPr>
          <p:spPr>
            <a:xfrm>
              <a:off x="5181480" y="4724280"/>
              <a:ext cx="3353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East Ro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2666880" y="1828800"/>
          <a:ext cx="3705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705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WordArt 6"/>
          <p:cNvSpPr txBox="1"/>
          <p:nvPr/>
        </p:nvSpPr>
        <p:spPr>
          <a:xfrm>
            <a:off x="1676520" y="533520"/>
            <a:ext cx="54864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08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The Oval Office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1219320" y="2286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Children Who Have Lived in the White Hous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609480" y="1676520"/>
            <a:ext cx="7675560" cy="4805280"/>
            <a:chOff x="609480" y="1676520"/>
            <a:chExt cx="7675560" cy="4805280"/>
          </a:xfrm>
        </p:grpSpPr>
        <p:graphicFrame>
          <p:nvGraphicFramePr>
            <p:cNvPr id="84" name="Object 8"/>
            <p:cNvGraphicFramePr/>
            <p:nvPr/>
          </p:nvGraphicFramePr>
          <p:xfrm>
            <a:off x="3124080" y="1676520"/>
            <a:ext cx="2006640" cy="22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1676520"/>
                      <a:ext cx="20066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Object 9"/>
            <p:cNvGraphicFramePr/>
            <p:nvPr/>
          </p:nvGraphicFramePr>
          <p:xfrm>
            <a:off x="6553080" y="1981080"/>
            <a:ext cx="1731960" cy="213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1981080"/>
                      <a:ext cx="17319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Object 10"/>
            <p:cNvGraphicFramePr/>
            <p:nvPr/>
          </p:nvGraphicFramePr>
          <p:xfrm>
            <a:off x="5105520" y="4648320"/>
            <a:ext cx="2666880" cy="183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4648320"/>
                      <a:ext cx="2666880" cy="18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1"/>
            <p:cNvGraphicFramePr/>
            <p:nvPr/>
          </p:nvGraphicFramePr>
          <p:xfrm>
            <a:off x="1295280" y="4800600"/>
            <a:ext cx="2667240" cy="139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4800600"/>
                      <a:ext cx="266724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2"/>
            <p:cNvGraphicFramePr/>
            <p:nvPr/>
          </p:nvGraphicFramePr>
          <p:xfrm>
            <a:off x="609480" y="1905120"/>
            <a:ext cx="1152720" cy="243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09480" y="1905120"/>
                      <a:ext cx="11527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1905120" y="2590920"/>
            <a:ext cx="5105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mericana BT"/>
              </a:rPr>
              <a:t>White House Pet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mericana BT"/>
              <a:ea typeface="Americana BT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685800" y="4419720"/>
            <a:ext cx="7989840" cy="2209680"/>
            <a:chOff x="685800" y="4419720"/>
            <a:chExt cx="7989840" cy="2209680"/>
          </a:xfrm>
        </p:grpSpPr>
        <p:graphicFrame>
          <p:nvGraphicFramePr>
            <p:cNvPr id="96" name="Object 6"/>
            <p:cNvGraphicFramePr/>
            <p:nvPr/>
          </p:nvGraphicFramePr>
          <p:xfrm>
            <a:off x="685800" y="4419720"/>
            <a:ext cx="19861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19861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5943600" y="4648320"/>
            <a:ext cx="2732040" cy="19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43600" y="4648320"/>
                      <a:ext cx="2732040" cy="19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Group 11"/>
          <p:cNvGrpSpPr/>
          <p:nvPr/>
        </p:nvGrpSpPr>
        <p:grpSpPr>
          <a:xfrm>
            <a:off x="228600" y="304920"/>
            <a:ext cx="8416800" cy="2286000"/>
            <a:chOff x="228600" y="304920"/>
            <a:chExt cx="8416800" cy="2286000"/>
          </a:xfrm>
        </p:grpSpPr>
        <p:graphicFrame>
          <p:nvGraphicFramePr>
            <p:cNvPr id="101" name="Object 8"/>
            <p:cNvGraphicFramePr/>
            <p:nvPr/>
          </p:nvGraphicFramePr>
          <p:xfrm>
            <a:off x="6934320" y="533520"/>
            <a:ext cx="171108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533520"/>
                      <a:ext cx="17110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3886200" y="304920"/>
            <a:ext cx="19256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304920"/>
                      <a:ext cx="19256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228600" y="380880"/>
            <a:ext cx="2438280" cy="205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80880"/>
                      <a:ext cx="2438280" cy="20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1:51:08Z</dcterms:created>
  <dc:creator>Inst</dc:creator>
  <dc:description/>
  <dc:language>en-US</dc:language>
  <cp:lastModifiedBy>hnace</cp:lastModifiedBy>
  <dcterms:modified xsi:type="dcterms:W3CDTF">2009-08-06T19:40:14Z</dcterms:modified>
  <cp:revision>10</cp:revision>
  <dc:subject/>
  <dc:title>First Grade Visits… </dc:title>
</cp:coreProperties>
</file>